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5400" y="729720"/>
            <a:ext cx="4867200" cy="365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F30C-2A2E-4A61-A17C-ADBFD7151D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type of Indian 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b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omething that makes           your pizza tas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word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way you s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ve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type of Indian b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b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omething that makes           your pizza taste b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word ch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entenc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way you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nouns are PRE-MODIFIED – they have extra information in front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noun phrases and underline the nou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we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, bad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 long es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ttle pi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sentences and underline the ver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covered in mu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lked alone through the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ie looked at her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: Why do you think nouns are pre-modified? What is the eff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ink of a more interesting synonym for each verb. Use a thesauru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nouns are PRE-MODIFIED – they have extra information in front of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noun phrases and underline the nou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we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, bad wo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 long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ttle pi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sentences and underline the 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covered in mu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lked alone through the 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ie looked at her m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: Why do you think nouns are pre-modified? What is the eff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ink of a more interesting synonym for each verb. Use a thesaurus if you wi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 ban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going to receive your own chocolate. Eat the chocolate, and then write your own description of it. Be as expressive as possible, and try to 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itable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ban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t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words to help you, or even better, find your own – use a thesaur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 ban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going to receive your own chocolate. Eat the chocolate, and then write your own description of it. Be as expressive as possible, and try to 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itable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ban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t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words to help you, or even better, find your own – use a thesauru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the characters in ‘Of Mice and Men’ are lonely and depressed. Write one paragraph about a lonely and depressed character in today’s soc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y 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y are lonely and de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be as descriptive as possible, using the skills from today’s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use figurative language: similes, metaphors, personific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loneliness / depres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ism – homelessness – bullying – poverty – or your own ide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the characters in ‘Of Mice and Men’ are lonely and depressed. Write one paragraph about a lonely and depressed character in today’s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y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y are lonely and de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be as descriptive as possible, using the skills from today’s les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use figurative language: similes, metaphors, personifica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loneliness / depr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ism – homelessness – bullying – poverty – or your own id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your descriptive para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your descriptive para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: Draw a line from each box pointing to an example of the language feat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: Draw a line from each box pointing to an example of the language featu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8B1-25BB-49EB-984B-D46866D7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909-1EF1-4DEE-B37D-3D911AEE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654-723F-491E-B058-4ACFE5F2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2A7-566E-4452-B2AC-AAE06ED0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8294-22FD-4FAF-96FB-3118DE26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75FD-B300-4CBA-AD9B-08685BE2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DB12-F4D8-409C-B8CA-74C59968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29E3-B551-45C3-9BF3-453926C0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4B70-5317-4E56-9CFC-E61FF824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64F-ECEC-464C-9F6E-E0AC5D76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96E7-60F2-4577-B4BB-65EB1841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EBE-02C2-497D-BE8F-D1B26EBB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A5E5-BB54-4F8B-ADC2-653D1EBAB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-36360" y="37944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cript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9079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 Objectiv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Explore ways to make writing descrip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Be able to write descrip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580000" y="2060640"/>
            <a:ext cx="2016360" cy="178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ey wor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 ph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82560" y="1916280"/>
            <a:ext cx="396072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 noun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An action or doing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A type of Indian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A person, place or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24000" y="4221000"/>
            <a:ext cx="3960720" cy="249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 verb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An action or doing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Something that makes           your pizza taste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A person, place or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643280" y="4497480"/>
            <a:ext cx="396108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Vocabulary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word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sentenc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The way you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Explore ways to make writing descri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50920" y="4437000"/>
            <a:ext cx="388944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nouns are PRE-MODIFIED – they have extra informatio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 fron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50920" y="765000"/>
            <a:ext cx="396072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oun 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Copy these noun phrases and underline the nou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 we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g, bad wo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re long e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little pi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572000" y="765000"/>
            <a:ext cx="3960720" cy="37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</a:rPr>
              <a:t>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Copy these sentences and underline the ver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as covered in mu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lked alone through the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tie looked at her m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50920" y="55897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: Why do you think nouns are pre-modified? What is the eff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643280" y="486900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think of a more interesting synonym for each verb. Use a thesaurus if you w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7299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324000" y="1628640"/>
            <a:ext cx="1008000" cy="144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 flipH="1">
            <a:off x="1331640" y="620640"/>
            <a:ext cx="1439640" cy="7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3995640" y="76500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771640" y="189000"/>
            <a:ext cx="18003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re-modified no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635280" y="1268280"/>
            <a:ext cx="7938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55640" y="2276640"/>
            <a:ext cx="18003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Exciting verb choices; some person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780000" y="1484280"/>
            <a:ext cx="433080" cy="14292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V="1">
            <a:off x="2050920" y="1628640"/>
            <a:ext cx="1729080" cy="648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411280" y="4113360"/>
            <a:ext cx="360360" cy="17928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1619280" y="3141720"/>
            <a:ext cx="720720" cy="93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4861080" y="1557360"/>
            <a:ext cx="187164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Arial"/>
              </a:rPr>
              <a:t>Generally exciting vocabulary, mostly relating to riches, elegance and sophis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6299280" y="260280"/>
            <a:ext cx="504720" cy="216000"/>
          </a:xfrm>
          <a:prstGeom prst="rect">
            <a:avLst/>
          </a:prstGeom>
          <a:noFill/>
          <a:ln w="22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V="1">
            <a:off x="6588000" y="549360"/>
            <a:ext cx="71640" cy="10080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5796000" y="620640"/>
            <a:ext cx="431640" cy="216000"/>
          </a:xfrm>
          <a:prstGeom prst="rect">
            <a:avLst/>
          </a:prstGeom>
          <a:noFill/>
          <a:ln w="22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 flipV="1">
            <a:off x="5940360" y="980640"/>
            <a:ext cx="0" cy="5763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Be able to write descrip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68360" y="3994200"/>
            <a:ext cx="1368360" cy="255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mo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50920" y="765000"/>
            <a:ext cx="8497800" cy="285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are going to receive your own chocolate. Eat the chocolate, and then write your own description of it. Be as expressive as possible, and try to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re-modified 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xciting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Suitable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050920" y="4164120"/>
            <a:ext cx="1368720" cy="209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ra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wat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ra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645080" y="4221000"/>
            <a:ext cx="44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these words to help you, or even better, find your own – use a thesaur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 flipH="1">
            <a:off x="3708000" y="5084640"/>
            <a:ext cx="792360" cy="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1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Be able to write descrip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55640" y="296064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they look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50920" y="765000"/>
            <a:ext cx="8497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of the characters in ‘Of Mice and Men’ are lonely and depressed. Write one paragraph about a lonely and depressed character in today’s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9640" y="2133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l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755640" y="346392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re they 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755640" y="396864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y they are lonely and dep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95280" y="4797360"/>
            <a:ext cx="8137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 as descriptive as possible, using the skills from today’s les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ul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e figurative language: similes, metaphors, personific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 rot="452400">
            <a:off x="5291640" y="2408400"/>
            <a:ext cx="3635280" cy="21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ossible reasons for loneliness / de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Racism – homelessness – bullying – poverty – or your own ide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Finish your descriptive paragrap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Due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2" descr=""/>
          <p:cNvPicPr/>
          <p:nvPr/>
        </p:nvPicPr>
        <p:blipFill>
          <a:blip r:embed="rId1"/>
          <a:stretch/>
        </p:blipFill>
        <p:spPr>
          <a:xfrm>
            <a:off x="971640" y="798480"/>
            <a:ext cx="7642080" cy="6159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39640" y="115920"/>
            <a:ext cx="180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627280" y="101520"/>
            <a:ext cx="244800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5292720" y="115920"/>
            <a:ext cx="33116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 rot="16200000">
            <a:off x="-2078640" y="3348720"/>
            <a:ext cx="48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SK: Draw a line from each box pointing to an example of the language featur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03280" y="404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1258920" y="2133720"/>
            <a:ext cx="86508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5:38:49Z</dcterms:created>
  <dc:creator>HWS</dc:creator>
  <dc:description/>
  <cp:keywords>Descriptive writing</cp:keywords>
  <dc:language>en-US</dc:language>
  <cp:lastModifiedBy>RomaK</cp:lastModifiedBy>
  <dcterms:modified xsi:type="dcterms:W3CDTF">2015-09-02T09:37:40Z</dcterms:modified>
  <cp:revision>13</cp:revision>
  <dc:subject/>
  <dc:title>Descriptive writing</dc:title>
</cp:coreProperties>
</file>